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0A0E-0B2B-42E5-BCA6-1841A631D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B83C-94CD-43CF-AFBC-838634E51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75EC-CB02-4DE8-9AAC-03EC59840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D0D4-08F3-425A-95E6-3EDBF4176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E3D9-472E-4753-BAEE-E05DD66A4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E1B9F0C0-5081-493D-8931-36BAEFFC73A7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FB6A938E-CDAC-41B0-BFC6-7D9D2B7C4405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785C5278-6510-4F84-89D0-3A968D5EF673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89000" y="5803920"/>
            <a:ext cx="87660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5: Spreadsheet and Worksheet Basics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ula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03320" y="15080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ions that perform calculations on values in a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formulas with equal sign (=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of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ons inside parenthes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 and division (in or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 and subtraction (in or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 Order of Operations! 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3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75D2F397-7C80-41DB-8ADD-8E3715E59EE4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ula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03280" y="1444680"/>
            <a:ext cx="8183520" cy="30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values for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use Cell References for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paces in formul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s show up in formula bar; results show up i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3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15338B9-65C3-4002-A77D-126A17905FFE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573200" y="3876840"/>
            <a:ext cx="68310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unction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efined formu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unction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(adds nu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(finds the average of a 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(counts the numbers in a 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 (finds the smallest number in a 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(finds the largest number in a 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Sum: select a function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utomatically suggests a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3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131F5D9E-AF88-41AD-A143-02B4BFAEDAD4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9:35:53Z</dcterms:created>
  <dc:creator>Jean Bissell</dc:creator>
  <dc:description>Copyright 2006 South-Western/Thomson</dc:description>
  <dc:language>en-US</dc:language>
  <cp:lastModifiedBy>Lenessa Keehn</cp:lastModifiedBy>
  <dcterms:modified xsi:type="dcterms:W3CDTF">2011-03-24T17:13:51Z</dcterms:modified>
  <cp:revision>20</cp:revision>
  <dc:subject/>
  <dc:title>Slide 1</dc:title>
</cp:coreProperties>
</file>